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5797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5507640"/>
            <a:ext cx="5797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8512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550764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85120" y="550764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4600" y="264168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35160" y="264168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550764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4600" y="550764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835160" y="5507640"/>
            <a:ext cx="18666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641680"/>
            <a:ext cx="5797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57974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2828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85120" y="2641680"/>
            <a:ext cx="2828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5120" y="2641680"/>
            <a:ext cx="2828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550764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2828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512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5120" y="550764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5120" y="2641680"/>
            <a:ext cx="2828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507640"/>
            <a:ext cx="57974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vg@sandy.ru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2641680"/>
            <a:ext cx="57974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1335240"/>
            <a:ext cx="5562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95120" y="414360"/>
            <a:ext cx="6559560" cy="8316720"/>
            <a:chOff x="195120" y="414360"/>
            <a:chExt cx="6559560" cy="8316720"/>
          </a:xfrm>
        </p:grpSpPr>
        <p:sp>
          <p:nvSpPr>
            <p:cNvPr id="3" name=""/>
            <p:cNvSpPr/>
            <p:nvPr/>
          </p:nvSpPr>
          <p:spPr>
            <a:xfrm>
              <a:off x="195120" y="1857960"/>
              <a:ext cx="6559560" cy="6872760"/>
            </a:xfrm>
            <a:custGeom>
              <a:avLst/>
              <a:gdLst/>
              <a:ahLst/>
              <a:rect l="l" t="t" r="r" b="b"/>
              <a:pathLst>
                <a:path w="4132" h="4690">
                  <a:moveTo>
                    <a:pt x="4131" y="0"/>
                  </a:moveTo>
                  <a:lnTo>
                    <a:pt x="0" y="0"/>
                  </a:lnTo>
                  <a:lnTo>
                    <a:pt x="0" y="4689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5120" y="414360"/>
              <a:ext cx="6559560" cy="8316720"/>
            </a:xfrm>
            <a:custGeom>
              <a:avLst/>
              <a:gdLst/>
              <a:ahLst/>
              <a:rect l="l" t="t" r="r" b="b"/>
              <a:pathLst>
                <a:path w="4132" h="5675">
                  <a:moveTo>
                    <a:pt x="323" y="5674"/>
                  </a:moveTo>
                  <a:lnTo>
                    <a:pt x="323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4131" y="702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990720" y="1460520"/>
            <a:ext cx="5638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6640" y="1541520"/>
            <a:ext cx="115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ел.: 97-41-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24000" y="1512720"/>
            <a:ext cx="450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аучно-производственное предприятие “ТРЭК”, 1997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360" y="252360"/>
            <a:ext cx="65977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1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 а  ф  е  д  р  а     « М  е  н  е  д  ж  м  е  н  т 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 и ж е г о р о д с к и й  О б р а з о в а т е л ь н ы й   К о н с о р ц и у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П р о г р а м м а  M B A  – « M a s t e r    o f   B u s i n e s s   A d m i n i s t r a t i o n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шков Вячеслав Григорьевич</a:t>
            </a:r>
            <a:br>
              <a:rPr sz="18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Технология успеха»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pplus.ru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vgp@pplus.ru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vg@sandy.r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5000" y="1979640"/>
            <a:ext cx="6093000" cy="78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НОЙ ТЕСТ №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курсу:«Основные принципы и практические приемы разработки организующей структуры компании».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: к.ф.-м.н., доцент ПАРШКОВ В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ушатель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_____________________________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милия, имя, отче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ания: _______________________________________________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зва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зиция в компании: ____________________________________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ол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актный тел.: ___________________,    e-mail: 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ts val="11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Заполните , пожалуйста, верхние поля и ответьте на следующие вопросы (если не знаете ответа – пишите «не знаю», это никоим образом не повлияет на Вашу итоговую оценку по курсу. </a:t>
            </a:r>
            <a:r>
              <a:rPr b="1" i="1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Влияет неучастие в тестировании и несданный тест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Что такое , на Ваш взгляд, «организующая структура компании»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акие виды «организующих структур» Вы можете назвать? (Перечислите просто названия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Что Вы знаете о дивизиональной структуре предприятия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Какие формы объединения многопрофильных компаний Вы знаете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С чего следует, на Ваш взгляд,  начинать разработку и/или оптимизацию организующей структуры компании 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5000" y="1979640"/>
            <a:ext cx="6093000" cy="78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ые вопросы входного теста № ____  по курсу: «Основные принципы и практические приемы разработки организующей структуры компании».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ушатель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_____________________________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милия, имя, отче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Ответьте, пожалуйста, на эти дополнительные вопросы. Это поможет нам уточниться, есть ли смысл вспомнить основные понятия по разработке «Стратегии компании» и если есть, то в  какой степени (в  каком объеме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Что такое , на Ваш взгляд, «Стратегия компании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Какие виды «Стратегии» Вы можете назвать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Перечислите просто названи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Что Вы знаете о модели 5 сил Порт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Поясните в чем смысл «Сфокусированной стратегии дифференци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6:13Z</dcterms:created>
  <dc:creator>Паршков В.Г.</dc:creator>
  <dc:description/>
  <dc:language>en-US</dc:language>
  <cp:lastModifiedBy>В.Г.</cp:lastModifiedBy>
  <dcterms:modified xsi:type="dcterms:W3CDTF">2006-09-15T18:34:00Z</dcterms:modified>
  <cp:revision>10</cp:revision>
  <dc:subject/>
  <dc:title>Слайд 1</dc:title>
</cp:coreProperties>
</file>